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5EE5-F986-479B-AE2E-CFADD579E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0ABA-4A85-4810-9A75-8863792A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28F9-496C-4061-8690-029746990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2F7B-1DD1-463D-A2E8-ABB3822E7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8D53-7FCB-4A8C-A082-DAE2AF579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5CA4-A54E-4B38-B954-A5651466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BC2A-D4F3-4889-B6A7-CC276767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CEA0-EF67-4A49-B27C-89886DBF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5D5A-F970-491F-8F47-9FBB3671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B51A-FDC8-4663-9429-F8AD8F2C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556A-E9FC-4736-860B-57EE387A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EB46-16EC-43E1-80D1-89D3B90C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4C37-5E3F-41D6-A454-5DA81458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4F8A-F353-4398-9C9F-B0F1E2C8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7A8D-A1BB-4CC2-9E7D-CFE38B6D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5C8E-A1E8-42BA-997B-84EABF89D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787A-DCDA-460C-870C-EAD4CDAEC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8E78-9299-4857-8B73-EDDFD0B5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9AD9-4A3F-44C6-8A01-03183326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F7D7-5FDD-4358-9F8D-BCFD05A8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0FA3-5C5E-4094-9F71-EAF40A71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3805-E251-4F3F-A6C6-3C6B5CD9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E2CC-9B81-40EC-BCAA-B262FBF5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8620-7A00-4F7E-BC95-FE9C5064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3582-ABF1-49A8-8317-99B519183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alphabet"/>
          <p:cNvPicPr/>
          <p:nvPr/>
        </p:nvPicPr>
        <p:blipFill>
          <a:blip r:embed="rId2"/>
          <a:stretch/>
        </p:blipFill>
        <p:spPr>
          <a:xfrm>
            <a:off x="0" y="0"/>
            <a:ext cx="9144000" cy="1219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B07C-1A9C-459E-9F23-5E6376896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BabyBlessings.gif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327672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0" y="1143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b6bcf"/>
                </a:solidFill>
                <a:latin typeface="Cambria Math"/>
                <a:ea typeface="Cambria Math"/>
              </a:rPr>
              <a:t>WELCOME PIERC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2"/>
          <p:cNvGrpSpPr/>
          <p:nvPr/>
        </p:nvGrpSpPr>
        <p:grpSpPr>
          <a:xfrm>
            <a:off x="306360" y="5334120"/>
            <a:ext cx="8613720" cy="1373040"/>
            <a:chOff x="306360" y="5334120"/>
            <a:chExt cx="8613720" cy="1373040"/>
          </a:xfrm>
        </p:grpSpPr>
        <p:pic>
          <p:nvPicPr>
            <p:cNvPr id="86" name="Picture 5" descr="C:\Logon\IEtemp\Content.IE5\IZUMX9CW\MPj04385070000[1].jpg"/>
            <p:cNvPicPr/>
            <p:nvPr/>
          </p:nvPicPr>
          <p:blipFill>
            <a:blip r:embed="rId2"/>
            <a:stretch/>
          </p:blipFill>
          <p:spPr>
            <a:xfrm>
              <a:off x="6095880" y="5334120"/>
              <a:ext cx="1373760" cy="13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5" descr="C:\Logon\IEtemp\Content.IE5\IZUMX9CW\MPj04385070000[1].jpg"/>
            <p:cNvPicPr/>
            <p:nvPr/>
          </p:nvPicPr>
          <p:blipFill>
            <a:blip r:embed="rId3"/>
            <a:stretch/>
          </p:blipFill>
          <p:spPr>
            <a:xfrm>
              <a:off x="1754280" y="5334120"/>
              <a:ext cx="1373760" cy="13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5" descr="C:\Logon\IEtemp\Content.IE5\IZUMX9CW\MPj04385070000[1].jpg"/>
            <p:cNvPicPr/>
            <p:nvPr/>
          </p:nvPicPr>
          <p:blipFill>
            <a:blip r:embed="rId4"/>
            <a:stretch/>
          </p:blipFill>
          <p:spPr>
            <a:xfrm>
              <a:off x="306360" y="5334120"/>
              <a:ext cx="1373760" cy="13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5" descr="C:\Logon\IEtemp\Content.IE5\IZUMX9CW\MPj04385070000[1].jpg"/>
            <p:cNvPicPr/>
            <p:nvPr/>
          </p:nvPicPr>
          <p:blipFill>
            <a:blip r:embed="rId5"/>
            <a:stretch/>
          </p:blipFill>
          <p:spPr>
            <a:xfrm>
              <a:off x="4647960" y="5334120"/>
              <a:ext cx="1373760" cy="13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5" descr="C:\Logon\IEtemp\Content.IE5\IZUMX9CW\MPj04385070000[1].jpg"/>
            <p:cNvPicPr/>
            <p:nvPr/>
          </p:nvPicPr>
          <p:blipFill>
            <a:blip r:embed="rId6"/>
            <a:stretch/>
          </p:blipFill>
          <p:spPr>
            <a:xfrm>
              <a:off x="3202200" y="5334120"/>
              <a:ext cx="1373760" cy="13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5" descr="C:\Logon\IEtemp\Content.IE5\IZUMX9CW\MPj04385070000[1].jpg"/>
            <p:cNvPicPr/>
            <p:nvPr/>
          </p:nvPicPr>
          <p:blipFill>
            <a:blip r:embed="rId7"/>
            <a:stretch/>
          </p:blipFill>
          <p:spPr>
            <a:xfrm>
              <a:off x="7546320" y="5334120"/>
              <a:ext cx="1373760" cy="1373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6:28:25Z</dcterms:created>
  <dc:creator> </dc:creator>
  <dc:description/>
  <dc:language>en-US</dc:language>
  <cp:lastModifiedBy>Lisa Thomas</cp:lastModifiedBy>
  <dcterms:modified xsi:type="dcterms:W3CDTF">2009-05-22T13:27:28Z</dcterms:modified>
  <cp:revision>3</cp:revision>
  <dc:subject/>
  <dc:title>Slide 1</dc:title>
</cp:coreProperties>
</file>